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DE3-0716-4850-8998-A8465A51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B16-26CF-42C3-91C1-4DB1B423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CF5-A77B-4C3D-87E3-E68A13E4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D68-8218-4E80-A853-0C69F51D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3BE5-F563-444D-9776-4A193858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5A9-3F25-40E3-939A-360A061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D529-CCB3-4D52-867D-99C72FDC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E770-B92A-4D42-8338-EB6E4D0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30FF-0B3F-4CC8-8A20-6BFF7D0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3582-B51B-4D67-B6E8-904072E7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CD2F-850F-41BB-B2E5-63E5190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9D6-6894-487D-A39D-AD5A4C86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1298-8CF4-448F-B99B-8340E9C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56DF-040F-4869-A0DB-0B83BC9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1F9-65D6-4400-B873-AE6C4DB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8F9-0650-432A-A40B-AF876281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4B77-24A4-4FE8-B8DF-B0273689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F2B-5821-4A9B-BB00-FA7D11E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79C-F3A3-433B-9434-F02F25FE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D24-C702-40C0-915D-C02FBB25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3F4-E763-4715-9571-FFDF8022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782-57C7-4C24-98F5-530BAF6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7C0-FF99-4173-915B-20319D23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CD6-02BA-4612-8498-B1EA7CB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6767-3320-47E7-A7C3-D0983D9C4F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5A6B-B0DE-4E04-BF2B-83B6DB6197E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the sentence that illustrates the use of proper parallel construction.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Coach Espinoza was a brilliant strategist, a caring mentor, and a wise frien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Coach Espinoza was a brilliant strategist, a caring mentor, and friend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We found the film repulsive, offensive, and we thought it was embarrass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We found the film repulsive, offensive, and embarrass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 Freewri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 minu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uld you rathe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 stranded on a deserted island al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someone you ha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ocabulary Practice-match the vocab word with its synony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cert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ta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nd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rn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gi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ple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n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er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usu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ughtfu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il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okou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u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f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pter 9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does Atticus think he can’t win Tom Robinson’s cas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o calls Scout a coward; why does she walk awa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is Atticus worried about Scout learning to ‘keep her head’ in the next few months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meant by this important quote: “One thing that doesn’t abide by majority rule is a person’s conscience?”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last sentence of the chapter, what does Scout mean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ot division-chapter 9 begins a new storyline, explain what happened in the first half of the book, and what you think will happen now in the secon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first half of boo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second half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e about the following: 2 paragraph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We just saw our first black president sworn into office, but the social climate in Maycomb was much different. How were black people treated. Why was it such a big deal that Atticus was defending Tom Robinson. Do you agree with him doing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. 1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mber we have a cumulative quiz tomorrow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6:41:50Z</dcterms:created>
  <dc:creator>Angie</dc:creator>
  <dc:description/>
  <dc:language>en-US</dc:language>
  <cp:lastModifiedBy>Angie</cp:lastModifiedBy>
  <dcterms:modified xsi:type="dcterms:W3CDTF">2009-02-04T12:44:39Z</dcterms:modified>
  <cp:revision>4</cp:revision>
  <dc:subject/>
  <dc:title>DOL</dc:title>
</cp:coreProperties>
</file>